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861-FC11-48D3-BD55-A4A2BBFC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1740-C735-43D7-A5CF-AD940975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1575-C672-4728-BF45-1294C69F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2817-B4E4-4A67-95C0-2BD2BFB3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DCA5-15B3-4E86-9871-C0AB54B5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57EB-4DF9-40AC-BAD6-2085927E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DE4-944A-4C19-B6A7-392E0F35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3E4D-4CA2-44D3-8D89-329BDE29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150-C8EB-4A56-8908-A70115E9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5E0-5091-44AF-A493-0983D783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66AA-32CC-4511-819B-23A4FC76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E62-8029-481C-9CC3-4C315F1D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94AE-85FD-4DF9-B220-DBCD06D221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400" spc="-1" strike="noStrike">
              <a:solidFill>
                <a:srgbClr val="ffc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2714760"/>
            <a:ext cx="6843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С.В. Михалков «Мой щено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0" y="214200"/>
            <a:ext cx="900108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 группа и 4 группа-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те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делите те слова, которые характеризуют девочку и щенка. Обоснуйте сво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 группа: 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в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б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ст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ени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ботли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л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внодуш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сто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им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814640" y="1428480"/>
            <a:ext cx="43290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4 группа: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Щено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ор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усл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уп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юбопыт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послушн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л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ловливы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500120" y="542916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Способ проверки: отчет о работе 1 ученика из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4996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теперь давайте выясним: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сли в доме есть животное- это хорошо или плохо?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те плюсы и минус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доске: </a:t>
            </a: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ржать дома животное-эт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71760" y="3429000"/>
          <a:ext cx="4929120" cy="1785960"/>
        </p:xfrm>
        <a:graphic>
          <a:graphicData uri="http://schemas.openxmlformats.org/drawingml/2006/table">
            <a:tbl>
              <a:tblPr/>
              <a:tblGrid>
                <a:gridCol w="2095200"/>
                <a:gridCol w="2833920"/>
              </a:tblGrid>
              <a:tr h="5954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орош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ох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95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54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357120" y="285840"/>
            <a:ext cx="85010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этом тренажере спрятался герой нового произведения. Найдите ег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щ 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  е  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  н  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  о 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  к 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наша дикция была четкой, учимся произносить скороговор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ва щенка щека к ще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Щиплют щетку в угол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выразительного чтения, нужно уметь правильно ставить логическое ударение. Прочитайте предложения, выделяя голосом выделенное слово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люблю играть с щенк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лю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грать с щенк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люблю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ть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с щенк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люблю играть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щенк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читайте это предложение по кругу. (Я, я люблю, я люблю играть, я люблю играть  с щенком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таем длинные слова из текста сначала по слогам, затем слов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-кры-вать-ся  - покрывать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-ре-ко-ше-на  -перекоше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-ку-тан-ный    - укутан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-бин-то-ван-ный -забинтован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214280" y="1000080"/>
            <a:ext cx="68580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инамическая пау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ешем щеткой мы щенк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удет шерстка так мягк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ачет радостный щено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рыть он радости не мог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Лиля\Рабочий стол\yorkshire-para-adocao-2.jpg"/>
          <p:cNvPicPr/>
          <p:nvPr/>
        </p:nvPicPr>
        <p:blipFill>
          <a:blip r:embed="rId1"/>
          <a:stretch/>
        </p:blipFill>
        <p:spPr>
          <a:xfrm>
            <a:off x="3357720" y="4071960"/>
            <a:ext cx="23097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0" y="0"/>
            <a:ext cx="9144000" cy="84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оварная работа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групповая работа- методика «Верно-неверно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объясняет: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Жбан  ( ведро для воды,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увшин с крышкой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1 группа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: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ладовка (заведующая складом, помещение для хранения клада, пристройка к дому, где хранятся вещи и продукт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2  группа: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челиный рой (семья пчёл, пчелиные гонк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3 группа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: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билась с ног  (измучиться, сбить себе ноги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4группа: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жит пластом (лежать на пластыре, вытянуться, лежать не шевеляс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57160" y="1357200"/>
          <a:ext cx="7929720" cy="4754520"/>
        </p:xfrm>
        <a:graphic>
          <a:graphicData uri="http://schemas.openxmlformats.org/drawingml/2006/table">
            <a:tbl>
              <a:tblPr/>
              <a:tblGrid>
                <a:gridCol w="3252960"/>
                <a:gridCol w="467676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Кладов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лежать на пласты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вытяну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ежать не шевеля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Лежит пласто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змучи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бить себе но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билась с но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емья пчё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челиные гон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челиный ро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заведующая складом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7030a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омещение для хранения кла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ристройка к дому, где хранятся вещи и продук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4" name="TextBox 3"/>
          <p:cNvSpPr/>
          <p:nvPr/>
        </p:nvSpPr>
        <p:spPr>
          <a:xfrm>
            <a:off x="785880" y="28584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а представления ответа виде таблиц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85840" y="428760"/>
            <a:ext cx="857232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над содержанием текста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работа в групп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 группа и 2 группа-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ление плана на до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полните пропущенные пункты пл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 группа: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йствия щ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л всех буд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………………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вернул жбан с мё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………………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………………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лез лапой в к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 группа: 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асения дев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к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угое имя д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…………………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кнет под дожд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16-01-31T18:37:11Z</dcterms:modified>
  <cp:revision>59</cp:revision>
  <dc:subject/>
  <dc:title>Моделирование учебного занятия  по формированию метапредметных или личностных результатов</dc:title>
</cp:coreProperties>
</file>